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DB7-05B6-493A-A426-7BAF43A4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38A-5154-447B-B57A-F87D6F0A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5E1-991A-4C92-8FDD-7A361BB1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404-32B0-452B-9285-09A20F2E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45D-8BD1-491B-B185-27540107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625-748E-4C7C-BA49-792B3841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DA18-CC99-4458-9E51-E8B7AD48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D962-FC44-4894-8D1C-25B2114C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1A4-6D09-4C73-9642-4789BDB7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561-A9C6-4199-82AB-F53D295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A2A-3C1A-4601-972E-06B2178E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F60-3F5B-4BC9-B862-0C5C17B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2F05-1795-4BDE-A4BD-C9033803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First Grade High Frequency Words (List 3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ju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o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h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s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it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und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a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plea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i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goi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th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oul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efor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4:00Z</dcterms:created>
  <dc:creator>Jennifer Dalton</dc:creator>
  <dc:description/>
  <dc:language>en-US</dc:language>
  <cp:lastModifiedBy>Jennifer Dalton</cp:lastModifiedBy>
  <dcterms:modified xsi:type="dcterms:W3CDTF">2011-10-31T11:29:43Z</dcterms:modified>
  <cp:revision>3</cp:revision>
  <dc:subject/>
  <dc:title>First Grade High Frequency Words (List 1)</dc:title>
</cp:coreProperties>
</file>